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BBC-2DA8-4D50-8ED9-1BE1B8B0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674-2150-4A5D-A64E-57E15047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C11-87B9-4BEB-9901-6866904F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11E-4ECD-416C-94CB-28EB2FA4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3C727-01D2-4301-9187-AA706DBA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CF541-DC29-4821-8B76-50857382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7C93F-193C-4AB7-B999-5FBA63AE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AD3AA-33BC-4A79-86F2-68DA2B81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9559C-75F3-4FDF-A79D-553A9D73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025F8-1F7E-45F0-87A6-391792EF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FE50D-0C9F-44B5-BBEB-4EB22D66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CC1-8EE1-41B2-9A07-99626407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AC376-7325-459D-9C54-5227CB8E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EB0FF-82A9-4C3D-8772-10B1A093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AD6FB-4969-466A-A9D6-3518374C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8ABD6-C4C6-455E-82EE-F59138E1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C26F6-F509-4882-8440-6A80F7B3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E3B-10ED-445D-8B1A-BD8EE1C6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F2C-A16D-4E5E-BA25-4F83ECB1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A29-C83F-4BBC-9A1A-639B70FD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9F7-4F39-400C-9757-40AFBB5C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471-2AFC-4682-9C86-54A02331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893-5351-469A-B163-7DA1D732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F8B-9404-46E9-B287-65D3AF78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DBD7-D607-45B1-ABE6-2362603A912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8878-18DD-47C5-8671-7233C7DD8003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Tahoma"/>
              </a:rPr>
              <a:t>ΠΛΑΙΣΙΟ ΔΙΕΞΑΓΩΓΗΣ ΕΠΙΚΟΙΝΩΝΙΑ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8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ΙΩΣΗΦ ΦΡΑΓΚΟΥΛΗΣ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ΚΑΘΗΓΗΤΗ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507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ΙΚΑΝΟΤΗΤΕΣ ΠΟΥ ΧΡΕΙΑΖΟΝΤΑΙ ΣΤΗΝ ΕΠΙΚΟΙΝΩΝΙ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Εδραίωση της αυτοεκτίμηση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Έκφραση συναισθημά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Αποδοχή και κατανόηση του άλλο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Εξοικείωση με τη «γλώσσα του σώματος» και τα επίπεδα μηνυμά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Ενεργητική ανταλλαγή μηνυμά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Η εναρμόνιση μηνυμάτων – σκέψεων-συναισθημάτων -πράξε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Χαρακτηριστικά γνωρίσματα ενός ανθρώπου με αυτοεκτίμησ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Αναγνωρίζει τις ελλείψεις και τις αδυναμίες του, προσπαθεί να τις αντιμετωπίσει χωρίς να έχει αρνητικά συναισθήματα γι’ αυτέ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Εκφράζει με θάρρος τις ανάγκες και τις προσδοκίες το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Υπερασπίζεται το δίκιο του χωρίς να προσβάλλει το δίκιο των άλλω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Είναι ειλικρινής με τα συναισθήματά του, ικανός να τα εκφράσει, συνεπής σε σχέση με αυτά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Είναι ανοικτός σε νέες καταστάσει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Αποκτά συνεχώς νέες πληροφορίες, γνώσεις, ικανότητε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Κατανοεί τους άλλους, συνυπάρχει με αυτούς χωρίς να ασκεί αναίτια κριτική, χωρίς να τους εκμεταλλεύεται ή να τους μειώνει με τη συμπεριφορά το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βασικότερη δεξιότητα στην επικοινωνία:</a:t>
            </a:r>
            <a:br>
              <a:rPr sz="3600"/>
            </a:b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ΕΝΕΡΓΗΤΙΚΗ ΑΚΡΟΑΣΗ</a:t>
            </a:r>
            <a:r>
              <a:rPr b="0" lang="el-GR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Η δεξιότητα της ενεργητικής ακρόασης είναι συμπεριφορά την οποία χρησιμοποιούμε για να δείξουμε ότι </a:t>
            </a:r>
            <a:r>
              <a:rPr b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προσέχουμε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 το συνομιλητή μας και όχι ότι ακούμε παθητικά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βασικότερη δεξιότητα στην επικοινωνία:</a:t>
            </a:r>
            <a:br>
              <a:rPr sz="3600"/>
            </a:b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ΕΝΕΡΓΗΤΙΚΗ  ΑΚΡΟΑΣ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Προσπαθούμε να συνθέσουμε τα λεκτικά και μη λεκτικά μηνύματα του συνομιλητή μας προκειμένου να καταλάβουμε αυτά που θέλει να μεταφέρει: δηλαδή </a:t>
            </a:r>
            <a:r>
              <a:rPr b="1" i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τι ακριβώς εννοεί και πώς αισθάνεται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9933"/>
                </a:solidFill>
                <a:latin typeface="Comic Sans MS"/>
              </a:rPr>
              <a:t>Χαρακτηριστικά της ΕΝΕΡΓΗΤΙΚΗΣ  ΑΚΡΟΑΣΗ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Οπτική επαφ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Κοιτάζουμε το συνομιλητή μας στα μάτι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Σωματική γλώσσ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Στάση του σώματος σε σχέση με το συνομιλητή μα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Κινήσεις και χειρονομί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Εκφράσεις του προσώπο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Νεύματ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Κίνηση και τοποθέτηση του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σώματος στο χώρ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9933"/>
                </a:solidFill>
                <a:latin typeface="Comic Sans MS"/>
              </a:rPr>
              <a:t>ΕΜΠΟΔΙΑ ΕΠΙΚΟΙΝΩΝΙΑ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Οι εντολές ή διαταγέ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Οι απειλέ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Παραινέσεις – ηθικολογί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Διδασκαλί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Κριτική, κατηγορί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Χαρακτηρισμοί, ταπεινώσει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Ερμηνείες, διαγνώσει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Ανάκρισ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8:34:30Z</dcterms:created>
  <dc:creator>vzoupas</dc:creator>
  <dc:description/>
  <dc:language>en-US</dc:language>
  <cp:lastModifiedBy>Γεώργιος Φραγκούλης</cp:lastModifiedBy>
  <dcterms:modified xsi:type="dcterms:W3CDTF">2022-03-27T07:33:09Z</dcterms:modified>
  <cp:revision>6</cp:revision>
  <dc:subject/>
  <dc:title>ΙΚΑΝΟΤΗΤΕΣ ΠΟΥ ΧΡΕΙΑΖΟΝΤΑΙ ΣΤΗΝ ΕΠΙΚΟΙΝΩΝΙΑ</dc:title>
</cp:coreProperties>
</file>